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0B5-EFE1-4376-84D5-E07D04D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08C-D193-4245-9F8C-F03D693E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D7A-E8BD-42C5-8905-826BDFE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8D6-8645-4376-B935-578B6F1D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0B6-823C-4A7F-993E-6CBD4B6D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543-4C70-4CA6-80FD-4AC2DE27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5910-AA32-4AF0-BC62-7C166BA8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6408-D324-4191-A0B5-CDBF6B2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2ED2-CDF0-4919-9742-E2F219FA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13C-99A9-45DE-A16A-E5EC1117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83D4-D818-4F43-AAA2-18A992BB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E0B-5D01-4482-A1B0-BF129989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4C0B-CCF6-46D0-914A-70B87FD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5E04-6211-4356-9424-15EF5A1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C91-F74D-450A-AC8F-749FE53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D4AD-957C-4158-9C9F-ABD0A3E7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08A-EA44-443A-9E34-DE6340E8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C89-8F56-4278-B5B7-8FD1D8B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B21-0C72-4EF7-AA3C-CC314FB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B1C-9B57-4578-9B8A-13539570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5BE-B522-40BD-884A-BE2650E5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D6D-AC63-47A0-86C6-A8E5ACA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581-0987-4C5A-9354-D9064214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16E-3698-4A67-B1FD-2078482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D26-712D-4245-A689-141063284F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8BF-4490-4924-ABE0-7553806100F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unicarea rapida cu parinti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ccesul diferentiat la informatii (secretariat, profesori, parinti, elev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izualizarea orarului / a colectivului de profesor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videnta notelor si a absentel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vertismente / anunturi in format electron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tatisticile unitatii de invatama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mport/export de d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43200" y="533520"/>
            <a:ext cx="28479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ALOGUL MEU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1143000"/>
            <a:ext cx="68295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bbess"/>
              </a:rPr>
              <a:t>Catalogul electronic faciliteaza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bbess"/>
              <a:ea typeface="Abbe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rul clase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tab_orar_clase" descr=""/>
          <p:cNvPicPr/>
          <p:nvPr/>
        </p:nvPicPr>
        <p:blipFill>
          <a:blip r:embed="rId1"/>
          <a:stretch/>
        </p:blipFill>
        <p:spPr>
          <a:xfrm>
            <a:off x="747720" y="1905120"/>
            <a:ext cx="764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ddled"/>
              </a:rPr>
              <a:t>Posibilitate de creare a orarului pe cl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tab_orar_clase_adaugare" descr=""/>
          <p:cNvPicPr/>
          <p:nvPr/>
        </p:nvPicPr>
        <p:blipFill>
          <a:blip r:embed="rId1"/>
          <a:stretch/>
        </p:blipFill>
        <p:spPr>
          <a:xfrm>
            <a:off x="662040" y="1371600"/>
            <a:ext cx="78199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rearea orarului cadrelor didactic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tab_orar_profesori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10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etalii privitoare la cadrul didactic ( specializarea, clasa la care e diriginte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tab_profesor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atele de contact si cele personale ale cadrului didactic(accesibile doar  administratorului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tab_profesor_adaugar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Monotype Corsiva"/>
              </a:rPr>
              <a:t>In continuare prezentam conectarea unui alt user : PROFESORUL </a:t>
            </a:r>
            <a:br>
              <a:rPr sz="3600"/>
            </a:br>
            <a:r>
              <a:rPr b="1" lang="en-US" sz="2800" spc="-1" strike="noStrike">
                <a:solidFill>
                  <a:srgbClr val="ffcc66"/>
                </a:solidFill>
                <a:latin typeface="Monotype Corsiva"/>
              </a:rPr>
              <a:t>- el poate citi datele personale ale elevilor la care pred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date_elevi_user_profesor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440" y="350640"/>
            <a:ext cx="7785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lfaen"/>
              </a:rPr>
              <a:t>Cadrul didactic poate transmite avertismente, date despre concursuri, programul de consultatii etc. unei clase, unui elev sau pari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informatii_utile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81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bbess"/>
              </a:rPr>
              <a:t>Aici se pastreza evidenta notelor pe obiecte de studii, precum si numarul si felul absente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note_absente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440" y="350640"/>
            <a:ext cx="7785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Niame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Niame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Niamey"/>
              </a:rPr>
              <a:t>Pagina urmatoare sintetizeaza situatia scolara pe semestre, dar si cea anuala, cu evidenta notelor pe discipline, precum si  numarul si felul absentelor inregistrat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350640"/>
            <a:ext cx="7785000" cy="5429160"/>
          </a:xfrm>
          <a:prstGeom prst="rect">
            <a:avLst/>
          </a:prstGeom>
          <a:ln w="0">
            <a:noFill/>
          </a:ln>
        </p:spPr>
      </p:pic>
      <p:pic>
        <p:nvPicPr>
          <p:cNvPr id="146" name="situatia_scolara_elev" descr=""/>
          <p:cNvPicPr/>
          <p:nvPr/>
        </p:nvPicPr>
        <p:blipFill>
          <a:blip r:embed="rId2"/>
          <a:stretch/>
        </p:blipFill>
        <p:spPr>
          <a:xfrm>
            <a:off x="690480" y="247680"/>
            <a:ext cx="776304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Monotype Corsiva"/>
              </a:rPr>
              <a:t>ADMINISTRATORUL poate crea conturi pentru alti administratori cu care sa imparta sarcinile de lucru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tab_administratori" descr=""/>
          <p:cNvPicPr/>
          <p:nvPr/>
        </p:nvPicPr>
        <p:blipFill>
          <a:blip r:embed="rId1"/>
          <a:stretch/>
        </p:blipFill>
        <p:spPr>
          <a:xfrm>
            <a:off x="671400" y="1843200"/>
            <a:ext cx="780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440" y="350640"/>
            <a:ext cx="7785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Microsoft Sans Serif"/>
              </a:rPr>
              <a:t>Un alt utilizator:</a:t>
            </a:r>
            <a:br>
              <a:rPr sz="3600"/>
            </a:br>
            <a:r>
              <a:rPr b="1" lang="en-US" sz="4000" spc="-1" strike="noStrike">
                <a:solidFill>
                  <a:srgbClr val="ffcc66"/>
                </a:solidFill>
                <a:latin typeface="Microsoft Sans Serif"/>
              </a:rPr>
              <a:t>PARINTELE</a:t>
            </a:r>
            <a:br>
              <a:rPr sz="4000"/>
            </a:br>
            <a:r>
              <a:rPr b="1" lang="en-US" sz="3200" spc="-1" strike="noStrike">
                <a:solidFill>
                  <a:srgbClr val="ffcc66"/>
                </a:solidFill>
                <a:latin typeface="Microsoft Sans Serif"/>
              </a:rPr>
              <a:t>-AFLA CARE ESTE COLECTIVUL DE PROFESORI AI CLASE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colectivul%20de%20profesori%20al%20clasei" descr=""/>
          <p:cNvPicPr/>
          <p:nvPr/>
        </p:nvPicPr>
        <p:blipFill>
          <a:blip r:embed="rId1"/>
          <a:stretch/>
        </p:blipFill>
        <p:spPr>
          <a:xfrm>
            <a:off x="704880" y="3124080"/>
            <a:ext cx="7734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oate citi informatii utile: orarul clasei, instiintari, avertismente transmise de profesori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informtii_utile" descr=""/>
          <p:cNvPicPr/>
          <p:nvPr/>
        </p:nvPicPr>
        <p:blipFill>
          <a:blip r:embed="rId1"/>
          <a:stretch/>
        </p:blipFill>
        <p:spPr>
          <a:xfrm>
            <a:off x="698400" y="2268360"/>
            <a:ext cx="77724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440" y="350640"/>
            <a:ext cx="7785000" cy="5429160"/>
          </a:xfrm>
          <a:prstGeom prst="rect">
            <a:avLst/>
          </a:prstGeom>
          <a:ln w="0">
            <a:noFill/>
          </a:ln>
        </p:spPr>
      </p:pic>
      <p:pic>
        <p:nvPicPr>
          <p:cNvPr id="153" name="orarul_copilului" descr=""/>
          <p:cNvPicPr/>
          <p:nvPr/>
        </p:nvPicPr>
        <p:blipFill>
          <a:blip r:embed="rId2"/>
          <a:stretch/>
        </p:blipFill>
        <p:spPr>
          <a:xfrm>
            <a:off x="681120" y="304920"/>
            <a:ext cx="7781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arintele vizualizeaza notele, absentele, mediile copilului sau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notele_copilului" descr=""/>
          <p:cNvPicPr/>
          <p:nvPr/>
        </p:nvPicPr>
        <p:blipFill>
          <a:blip r:embed="rId2"/>
          <a:stretch/>
        </p:blipFill>
        <p:spPr>
          <a:xfrm>
            <a:off x="681120" y="1828800"/>
            <a:ext cx="778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absentele_copilului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85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situatia_scolara_a_copilului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1532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tilizator: </a:t>
            </a:r>
            <a:r>
              <a:rPr b="1" lang="en-US" sz="4800" spc="-1" strike="noStrike">
                <a:solidFill>
                  <a:srgbClr val="ffcc66"/>
                </a:solidFill>
                <a:latin typeface="Franklin Gothic Medium"/>
              </a:rPr>
              <a:t>ELEVUL</a:t>
            </a:r>
            <a:br>
              <a:rPr sz="4800"/>
            </a:br>
            <a:r>
              <a:rPr b="0" lang="en-US" sz="3600" spc="-1" strike="noStrike">
                <a:solidFill>
                  <a:srgbClr val="ffcc66"/>
                </a:solidFill>
                <a:latin typeface="Calligraphic"/>
              </a:rPr>
              <a:t>-are acces la aceleasi informatii referitoare la datele sale ca si utilizatorul “parinte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Calligraphic"/>
              </a:rPr>
              <a:t>- nu poate modifica in niciun fel datele inscrise in acest catalog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Palatino Linotype"/>
              </a:rPr>
              <a:t>Administratorul poate adauga clase, poate edita sau sterge datele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tab_clase" descr=""/>
          <p:cNvPicPr/>
          <p:nvPr/>
        </p:nvPicPr>
        <p:blipFill>
          <a:blip r:embed="rId1"/>
          <a:stretch/>
        </p:blipFill>
        <p:spPr>
          <a:xfrm>
            <a:off x="704880" y="2133720"/>
            <a:ext cx="7734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ici se poate adauga dirigintele fiecarei clase si se pot opera modifica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tab_clase_adaugare" descr=""/>
          <p:cNvPicPr/>
          <p:nvPr/>
        </p:nvPicPr>
        <p:blipFill>
          <a:blip r:embed="rId2"/>
          <a:stretch/>
        </p:blipFill>
        <p:spPr>
          <a:xfrm>
            <a:off x="714240" y="2362320"/>
            <a:ext cx="771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lfaen"/>
              </a:rPr>
              <a:t>Aici se poate configura structura anului scolar, programul orelor de studiu, diverse…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tab_configurare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7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ici se afla evidenta  elevilor clasei selectate, adresa acestora si telefoanele parinti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tab_elev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772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440" y="350640"/>
            <a:ext cx="7785000" cy="5429160"/>
          </a:xfrm>
          <a:prstGeom prst="rect">
            <a:avLst/>
          </a:prstGeom>
          <a:ln w="0">
            <a:noFill/>
          </a:ln>
        </p:spPr>
      </p:pic>
      <p:pic>
        <p:nvPicPr>
          <p:cNvPr id="119" name="tab_elev_adaugare" descr=""/>
          <p:cNvPicPr/>
          <p:nvPr/>
        </p:nvPicPr>
        <p:blipFill>
          <a:blip r:embed="rId2"/>
          <a:stretch/>
        </p:blipFill>
        <p:spPr>
          <a:xfrm>
            <a:off x="762120" y="19080"/>
            <a:ext cx="76197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Aceasta pagina cuprinde lista materiilor de studiu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tab_materii" descr=""/>
          <p:cNvPicPr/>
          <p:nvPr/>
        </p:nvPicPr>
        <p:blipFill>
          <a:blip r:embed="rId2"/>
          <a:stretch/>
        </p:blipFill>
        <p:spPr>
          <a:xfrm>
            <a:off x="785880" y="1600200"/>
            <a:ext cx="7572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pecificatii pentru fiecare materie in part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tab_materii_adaugare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9:58:41Z</dcterms:created>
  <dc:creator>sakura</dc:creator>
  <dc:description/>
  <dc:language>en-US</dc:language>
  <cp:lastModifiedBy>sakura</cp:lastModifiedBy>
  <dcterms:modified xsi:type="dcterms:W3CDTF">2008-09-16T21:43:42Z</dcterms:modified>
  <cp:revision>9</cp:revision>
  <dc:subject/>
  <dc:title>PowerPoint Presentation</dc:title>
</cp:coreProperties>
</file>